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086-42A6-4BAD-AF74-4F8ED4E4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A492-AC64-4C7E-B252-45A8A57F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275-238B-4940-9A10-C58367DA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EF4A-598E-4886-BD4D-F028BC3E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A9A-46C2-4C70-8648-733A8E6B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FDB-0BF1-4B1C-96E1-AD13FFA9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89AC-7DC9-4190-B404-42B71077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852-2C4B-477F-82E8-81D69872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33D-D80E-41A0-8CA5-0B558959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928-A09E-4963-8B2B-48FC8BD7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1D1-22BE-4BA1-8293-DCCFF712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A55-4B63-4254-94B1-DDB5D177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B9B6-B931-4853-9D3B-5656A33A2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2200" y="1557360"/>
            <a:ext cx="1946160" cy="3959280"/>
          </a:xfrm>
          <a:custGeom>
            <a:avLst/>
            <a:gdLst>
              <a:gd name="textAreaLeft" fmla="*/ 94680 w 1946160"/>
              <a:gd name="textAreaRight" fmla="*/ 1851480 w 1946160"/>
              <a:gd name="textAreaTop" fmla="*/ 94680 h 3959280"/>
              <a:gd name="textAreaBottom" fmla="*/ 3864600 h 3959280"/>
            </a:gdLst>
            <a:ahLst/>
            <a:rect l="textAreaLeft" t="textAreaTop" r="textAreaRight" b="textAreaBottom"/>
            <a:pathLst>
              <a:path w="21600" h="43939">
                <a:moveTo>
                  <a:pt x="3600" y="0"/>
                </a:moveTo>
                <a:arcTo wR="3600" hR="3600" stAng="16200000" swAng="-5400000"/>
                <a:lnTo>
                  <a:pt x="0" y="40339"/>
                </a:lnTo>
                <a:arcTo wR="3600" hR="3600" stAng="10800000" swAng="-5400000"/>
                <a:lnTo>
                  <a:pt x="18000" y="439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916280"/>
            <a:ext cx="1441440" cy="16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,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4076640"/>
            <a:ext cx="701640" cy="8650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637000"/>
            <a:ext cx="701640" cy="8650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83000" y="4149720"/>
            <a:ext cx="1873080" cy="792000"/>
          </a:xfrm>
          <a:prstGeom prst="rightArrow">
            <a:avLst>
              <a:gd name="adj1" fmla="val 50000"/>
              <a:gd name="adj2" fmla="val 59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8000" y="43340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15760" y="138744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15040" y="314172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2EE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16120" y="522288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8520" y="547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6920" y="138744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Geronimo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3640" y="547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9080" y="3141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Arti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9080" y="522288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Deploy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1" idx="0"/>
            <a:endCxn id="47" idx="1"/>
          </p:cNvCxnSpPr>
          <p:nvPr/>
        </p:nvCxnSpPr>
        <p:spPr>
          <a:xfrm flipH="1" rot="16200000">
            <a:off x="1925640" y="927000"/>
            <a:ext cx="60120" cy="1320840"/>
          </a:xfrm>
          <a:prstGeom prst="curvedConnector4">
            <a:avLst>
              <a:gd name="adj1" fmla="val -6626"/>
              <a:gd name="adj2" fmla="val 636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3"/>
            <a:endCxn id="48" idx="1"/>
          </p:cNvCxnSpPr>
          <p:nvPr/>
        </p:nvCxnSpPr>
        <p:spPr>
          <a:xfrm>
            <a:off x="2052720" y="2743920"/>
            <a:ext cx="562680" cy="627840"/>
          </a:xfrm>
          <a:prstGeom prst="curvedConnector3">
            <a:avLst>
              <a:gd name="adj1" fmla="val 2560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3"/>
            <a:endCxn id="49" idx="1"/>
          </p:cNvCxnSpPr>
          <p:nvPr/>
        </p:nvCxnSpPr>
        <p:spPr>
          <a:xfrm>
            <a:off x="1673280" y="4509360"/>
            <a:ext cx="943200" cy="943560"/>
          </a:xfrm>
          <a:prstGeom prst="curvedConnector3">
            <a:avLst>
              <a:gd name="adj1" fmla="val 2588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5940360" y="1819440"/>
            <a:ext cx="295128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DD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と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Geronimo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独自の</a:t>
            </a:r>
            <a:br>
              <a:rPr sz="1800"/>
            </a:b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の代わり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plan.xml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のみを持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Internal module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も存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0360" y="5608800"/>
            <a:ext cx="360036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Kevan Mill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氏の記憶で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nfiguration Fil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い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名称は無かったは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3573360"/>
            <a:ext cx="295128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※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J2EE Module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という</a:t>
            </a:r>
            <a:br>
              <a:rPr sz="1800"/>
            </a:b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　　呼び方も残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4:16:23Z</dcterms:created>
  <dc:creator> </dc:creator>
  <dc:description/>
  <dc:language>en-US</dc:language>
  <cp:lastModifiedBy>r-kajiyama</cp:lastModifiedBy>
  <dcterms:modified xsi:type="dcterms:W3CDTF">2007-03-26T04:04:12Z</dcterms:modified>
  <cp:revision>17</cp:revision>
  <dc:subject/>
  <dc:title>スライド 1</dc:title>
</cp:coreProperties>
</file>