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E0A1-4601-430F-861C-FD3A6535F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E835-7EB3-4DE2-B1BA-A5AC82C9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12B5-1DF7-4070-B96E-C1968942A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0F74-CF20-4FE2-97AE-AD6174D25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AAC0-ACEE-412C-9549-270E8479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B0B3-B752-4633-89F1-1695F1E1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1BED-5422-4F6A-91CF-6EFE953E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39F1-A122-431A-9D19-5959CF6D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2C02-7FEF-4ECF-BE70-C736C3D8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6AE3-071C-4E54-A3C8-6CA41BC2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533A-680B-4276-B5C0-63865950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EBF7-6254-4055-8053-C1754F30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A10A-6161-4C79-A7E4-1F7FBDAE2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2200" y="1557360"/>
            <a:ext cx="1946160" cy="3959280"/>
          </a:xfrm>
          <a:custGeom>
            <a:avLst/>
            <a:gdLst>
              <a:gd name="textAreaLeft" fmla="*/ 94680 w 1946160"/>
              <a:gd name="textAreaRight" fmla="*/ 1851480 w 1946160"/>
              <a:gd name="textAreaTop" fmla="*/ 94680 h 3959280"/>
              <a:gd name="textAreaBottom" fmla="*/ 3864600 h 3959280"/>
            </a:gdLst>
            <a:ahLst/>
            <a:rect l="textAreaLeft" t="textAreaTop" r="textAreaRight" b="textAreaBottom"/>
            <a:pathLst>
              <a:path w="21600" h="43939">
                <a:moveTo>
                  <a:pt x="3600" y="0"/>
                </a:moveTo>
                <a:arcTo wR="3600" hR="3600" stAng="16200000" swAng="-5400000"/>
                <a:lnTo>
                  <a:pt x="0" y="40339"/>
                </a:lnTo>
                <a:arcTo wR="3600" hR="3600" stAng="10800000" swAng="-5400000"/>
                <a:lnTo>
                  <a:pt x="18000" y="439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1916280"/>
            <a:ext cx="1441440" cy="165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R, 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4076640"/>
            <a:ext cx="701640" cy="86508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637000"/>
            <a:ext cx="701640" cy="86508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83000" y="4149720"/>
            <a:ext cx="1873080" cy="792000"/>
          </a:xfrm>
          <a:prstGeom prst="rightArrow">
            <a:avLst>
              <a:gd name="adj1" fmla="val 50000"/>
              <a:gd name="adj2" fmla="val 591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8000" y="433404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15760" y="138744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15040" y="314172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2EE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16120" y="522288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loyment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78520" y="5475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66920" y="138744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Geronimo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13640" y="5475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69080" y="31417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Artif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69080" y="522288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Deployment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1" idx="0"/>
            <a:endCxn id="47" idx="1"/>
          </p:cNvCxnSpPr>
          <p:nvPr/>
        </p:nvCxnSpPr>
        <p:spPr>
          <a:xfrm flipH="1" rot="16200000">
            <a:off x="1925640" y="927000"/>
            <a:ext cx="60120" cy="1320840"/>
          </a:xfrm>
          <a:prstGeom prst="curvedConnector4">
            <a:avLst>
              <a:gd name="adj1" fmla="val -6626"/>
              <a:gd name="adj2" fmla="val 6365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"/>
          <p:cNvCxnSpPr>
            <a:stCxn id="42" idx="3"/>
            <a:endCxn id="48" idx="1"/>
          </p:cNvCxnSpPr>
          <p:nvPr/>
        </p:nvCxnSpPr>
        <p:spPr>
          <a:xfrm>
            <a:off x="2052720" y="2743920"/>
            <a:ext cx="562680" cy="627840"/>
          </a:xfrm>
          <a:prstGeom prst="curvedConnector3">
            <a:avLst>
              <a:gd name="adj1" fmla="val 2560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43" idx="3"/>
            <a:endCxn id="49" idx="1"/>
          </p:cNvCxnSpPr>
          <p:nvPr/>
        </p:nvCxnSpPr>
        <p:spPr>
          <a:xfrm>
            <a:off x="1673280" y="4509360"/>
            <a:ext cx="943200" cy="943560"/>
          </a:xfrm>
          <a:prstGeom prst="curvedConnector3">
            <a:avLst>
              <a:gd name="adj1" fmla="val 2588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8" name=""/>
          <p:cNvSpPr/>
          <p:nvPr/>
        </p:nvSpPr>
        <p:spPr>
          <a:xfrm>
            <a:off x="5940360" y="1819440"/>
            <a:ext cx="295128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※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DD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と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Geronimo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独自の</a:t>
            </a:r>
            <a:br>
              <a:rPr sz="1800"/>
            </a:b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　　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の代わり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　　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plan.xml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のみを持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　　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Internal module</a:t>
            </a:r>
            <a:r>
              <a:rPr b="0" lang="ja-JP" sz="1800" spc="-1" strike="noStrike">
                <a:solidFill>
                  <a:srgbClr val="ff0066"/>
                </a:solidFill>
                <a:latin typeface="Arial"/>
              </a:rPr>
              <a:t>も存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00360" y="5608800"/>
            <a:ext cx="360036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Kevan Mille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氏の記憶で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onfiguration Fil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い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名称は無かったは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40360" y="3573360"/>
            <a:ext cx="2951280" cy="12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※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J2EE Module</a:t>
            </a: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という</a:t>
            </a:r>
            <a:br>
              <a:rPr sz="1800"/>
            </a:b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　　呼び方も残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7T14:16:23Z</dcterms:created>
  <dc:creator> </dc:creator>
  <dc:description/>
  <dc:language>en-US</dc:language>
  <cp:lastModifiedBy>r-kajiyama</cp:lastModifiedBy>
  <dcterms:modified xsi:type="dcterms:W3CDTF">2007-03-26T04:04:12Z</dcterms:modified>
  <cp:revision>17</cp:revision>
  <dc:subject/>
  <dc:title>スライド 1</dc:title>
</cp:coreProperties>
</file>